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338-ED9D-4701-A6D0-176C7310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76C-9E73-4DCA-A749-1FCFD768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62DDF-F2E5-48E7-8941-2971B193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0145E-D7F4-401B-9F6F-93CA8710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987B1-4C0C-4C91-B5FA-F48C2C52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6E25E-67D2-498F-A060-EA67D2DD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55CF1-5A3B-4C07-9B50-7D396594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2A61D-0695-47D5-AB05-7D54A94A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977CD-058A-4D79-9656-AA7F299A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26652-1BB9-4A1F-B34D-7FBAA6AF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AA08C-CBD6-4987-92C5-C94C49A5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2DE4D-6440-47B8-99F7-189787EC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CFA-2451-46E9-A3FC-CF3A39DE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86125-7AE1-4996-AA29-1BBA9100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C1341-722A-4447-B3B0-13AAF0CB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4F124-FB88-4EA3-B66A-62AEC33A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3B0A9-F3B6-488A-9832-A4E16C0E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6730B-B9B9-4A04-97FD-F0FB68ED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4468E-EC0D-4F0F-90D0-2564F9EB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CCE23-D72F-4302-B4F0-A9ED00F7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3CEB5-4F56-40D2-9CBA-2D06C890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0A64C-9899-4604-BA66-1146C684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0E375-9B9D-4F55-8639-7E9DAC8B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1AE-5058-4E69-B9F9-2BBE66BF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F78DF-4C7B-40FE-9DBD-F6C9ECDF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5F98A-9D1E-48A4-A13E-39310A78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9083D-DF4E-45C6-9E88-910C9C60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155A3-A03B-47D8-8B9E-EDFA83C8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A3EE4-4D88-4CE4-8F2F-23FB02E0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347F6-91D9-40F4-B0F4-0735538C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6412E-68B1-48B6-923F-105EBC17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C43A5-5866-4E4B-BB3B-0BDC2429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6505F-40F4-4FB1-A808-52EEA610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7E482-BBCA-49AC-9FFC-4B55ECDD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92FB-0EB4-4533-9709-09A538CD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CC831-A483-4495-AADC-8B9B21F4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1D1B7-373C-47DA-B8B3-CFD7A324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C6738-8607-4A79-89BA-FFFE2A16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559A8-4839-457F-8AEB-108575FD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74A14-865A-423E-BE15-53D28B0C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8A9DA-3B4F-43C8-BD59-BE924B23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8E140-4C1C-427E-8DDD-110D5114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86895-ADB3-4DC9-B339-3EFD2711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D3AED-DE68-4635-BA46-9DFE461F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4E84F-0042-460E-8012-AFAAA163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EBC0-1574-4984-BF6F-BA6B093E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6A138-8D28-41F6-ADDD-DBCB1377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F49B4-4A0D-406E-99F6-BAA0E82F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AA462-A6F0-418B-B39A-B91ECB08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D5446-3793-4045-9537-BB9A7C29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D9F18-83AC-42A6-AEC1-5989983A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ADC6-B1EF-4491-8D61-84A6D057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920D-E5AF-41E4-941A-5F312426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5A46-50D4-4BDF-B86D-DEF919B9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1F3D-6885-4A85-A4E1-0841F318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97CC-0627-4DCD-BD68-71EBEE99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B67-32CC-47D5-AAA7-CABB4130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FC45-EC29-4273-9CBD-B2591DDF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77DC-7A0D-49DD-BB3D-A6E3806B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DA21-F57A-43E0-BB37-15A7B877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CB51-5260-46F3-86CD-83F1C813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1E0B-A07E-4981-A075-082E85B4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92FE0-795F-4DBF-83EA-600D6C7D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ECB6E-F0C9-4048-8A20-BBBB1BCD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D74AD-F5DE-49E1-B906-0EC34F70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168B6-04E8-4D93-8E79-50D3BBA0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BE9DE-1811-4F59-9CFA-20A0041B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675-CD0D-43B6-9EDB-72879E99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D414-3BB9-4438-8B71-BF88ED21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7AC6A-E486-4446-A079-017E42F5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2C7E8-FA17-4D40-BDD1-2FE3C46E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C027-9F6E-47F2-80C0-3718EF41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84387-51A7-48EC-83F3-4D3EF206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A8D7A-72F1-4DB0-9749-92009D59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83E5D-049E-4F1A-B9D6-619513EA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F2038-42A5-4D21-A429-21310CE4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4A217-5250-4B5B-BFE7-B0F238EC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6A156-7309-440D-AADB-73BB61F4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165-6D5F-4471-885F-2E8714AA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B9EA7-E21E-48AD-81EF-CDD009C5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496EA-9A69-4532-8956-2BE7D00A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13707-683D-4110-95CD-63B25EF6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C96F1-9157-4A4B-96FD-09DEE1CF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9AA98-F0C0-4AF9-B641-131E2D9A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FA086-7E52-4817-B4AB-94922542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3EDE5-8018-4404-A7AF-5DBE9DA6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A5095-0FF7-4A17-84C2-4AA72E9A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F447C-1F64-40ED-A2E1-B9EF8590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26182-EDC3-41BF-992B-E6DA4D6F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A44-7F10-4F30-9FEA-6D251B73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6119C-478C-4667-B499-4F1300FD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3A97B-AB8C-4FB8-8B5E-D76FAD65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410B9-AF9B-48E5-B98A-1AA2901E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A3527-4419-4C55-916F-7450F381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453FD-0A41-4DDB-A9F0-6EE24E8D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C9AB1-A828-4B06-BDA9-6FB0FCFF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E8282-644C-4ABB-959A-07F66D79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0001D-5DCC-4E99-B511-D4C57F66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425B3-3550-41E1-9042-BE67592D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A6830-7756-493C-AA9D-0B763AD4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4E5-22C7-469B-AD2F-E238BD77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2DE58-9B31-4FF7-8E4E-1D230DF4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DE8EE-90B2-4193-A32A-923DC3B9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E0EB1-F229-4666-A9DB-63650D62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DDF96-CA2E-448A-B5AB-95D94A42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AE44B-5126-47DA-B838-103667B8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38379-4AC2-41BF-A851-D34F30E0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25CE7-C1CE-4B45-9A84-1D5D98B8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4967C-4C2A-4957-BF94-5646D651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7A1D1-8757-43B0-99C7-49744FC6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7DCF1-4EB9-477C-8CF9-8D2F3A4D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B62-20D7-41A6-B2A0-E4FAB4BC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B5BBE-03E8-4614-9A95-8059DB92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05F15-77DE-45F1-B5A2-69727037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19FAA-5F12-42A3-964E-E2385A43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A8E8E-43C3-46E3-AC05-0F3365DA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2CCBA-33B8-4879-896B-89406E76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A2EFC-59CD-478F-9EAC-52550BFD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953AE-0E4D-47E5-BCCF-0D8EB74C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2497B-5254-4B71-8948-20E5FA30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F4B2D-A05E-41CA-B864-D2C2B915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46E8C-61D7-4381-B46E-1C6AF3FE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2A0-D487-4C00-B735-F7C97E39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90E9C-E2C9-455B-A4DA-4EE5FEAF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E57DD-92CB-42A8-A206-0DDB53D2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CAF6C-D8B2-4379-8BA1-9FCD79E1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AE19E-D0E8-4C34-BE6C-C0A678F8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535C6-0293-4C6D-8A91-274DB3F4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E0488-B8B4-4580-A62D-8B27D3BC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960EF-256F-4681-8D7D-6FA09B37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5FA49-2716-4FDA-90DC-0CC8A411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35FD2-F32C-447B-B8EE-38F3F22B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E9637-FB44-4C25-96EF-9807081D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907-1321-421D-B0EA-B2D498EB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C78B8-4C0F-450C-A226-1539A1E3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96865-97A1-4A74-AB21-D100DE2E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32CB8-D95C-45FA-9B47-5A3DD800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11D9A-EBEC-4F31-BAB9-ECB756FD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591E3-2ED7-4598-AB94-C6B5CB3D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E569D-F2CD-42E7-8357-461CC5A5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19F5C-0742-44FA-BB97-9976E853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9CF50-2B55-43A8-B683-6CDFCE2C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8D8D5-1AFA-41FC-9C0B-664D9D77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832CB-89CB-47D4-BA9D-CE3144AD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CA6D-FB9B-4D8F-98F0-8513FD10B82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E2CD-2839-4ED7-9639-40AC0D2079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355C-4B95-4095-8C02-F82D31BF33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61DF-140F-4775-B0A6-0335BDC1F4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3A9D-53AF-47F3-872E-46403B87331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4586-FCB9-41BE-BCBF-2654C07E4B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4AF0-6254-45C9-9157-133A6FBEA4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B258-78D2-464E-AB3B-B0E059E06E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9C50-C50D-4A15-A350-33BD79CEE1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F735-E7A6-44AC-B015-712836AC0E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9B86-D05F-434E-97CD-5EEEABDDA9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89AF-B6B2-495A-8476-C0E538980C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.jike.com/detail?did=-684211577223914562&amp;pos=78&amp;num=36&amp;q=&#24310;&#23433;&#31377;&#27934;&#22270;&#29255;&amp;fm=QH360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.jike.com/detail?did=-2892719140794876867&amp;pos=39&amp;num=36&amp;q=&#24310;&#23433;&#23453;&#22612;&#23665;&amp;fm=seso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b10.photo.store.qq.com/http_imgload.cgi?/rurl4_b=f52733238bc189dd92eac1a168c98ddfa00841e3306e39fe4a76a778f5a955704802e448fb012837ecebd822e36d6b4a978c6a836c914f40c3e4183c918a7d60445df39d794e4d785de41445225eba325feec3ed&amp;a=29&amp;b=10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48e61b03778a9543c05953bed78d37799f013b0cf49d6b73e805fac7e696ff7e63d04222d4ff987568dbd768a565a94eb7b8cbd4eaf6f89be8ec827e5c08f80993261d77&amp;a=29&amp;b=29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b29.photo.store.qq.com/http_imgload.cgi?/rurl4_b=f52733238bc189dd92eac1a168c98ddf48e61b03778a9543c05953bed78d37799f013b0cf49d6b73e805fac7e696ff7e63d04222d4ff987568dbd768a565a94eb7b8cbd4eaf6f89be8ec827e5c08f80993261d77&amp;a=29&amp;b=29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12.photo.store.qq.com/http_imgload.cgi?/rurl4_b=f52733238bc189dd92eac1a168c98ddfdd257e0c212d5b52acb7c6190b53ce40946b85c4853ca57faab0537800226bf7f6d40d8228070a685925234c2f3d347d562355a0d5c31d3b47fa862a0ab86e310bc08953&amp;a=29&amp;b=12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3" descr="《延安，我把你追寻》插图2"/>
          <p:cNvPicPr/>
          <p:nvPr/>
        </p:nvPicPr>
        <p:blipFill>
          <a:blip r:embed="rId1"/>
          <a:stretch/>
        </p:blipFill>
        <p:spPr>
          <a:xfrm>
            <a:off x="0" y="0"/>
            <a:ext cx="9144000" cy="4775040"/>
          </a:xfrm>
          <a:prstGeom prst="rect">
            <a:avLst/>
          </a:prstGeom>
          <a:ln w="0">
            <a:noFill/>
          </a:ln>
        </p:spPr>
      </p:pic>
      <p:sp>
        <p:nvSpPr>
          <p:cNvPr id="507" name="WordArt 5"/>
          <p:cNvSpPr txBox="1"/>
          <p:nvPr/>
        </p:nvSpPr>
        <p:spPr>
          <a:xfrm>
            <a:off x="1600200" y="5181480"/>
            <a:ext cx="6400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uFillTx/>
                <a:latin typeface="华文彩云"/>
              </a:rPr>
              <a:t>延安，我把你追寻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uFillTx/>
              <a:latin typeface="华文彩云"/>
              <a:ea typeface="华文彩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南泥湾开荒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996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5"/>
          <p:cNvSpPr/>
          <p:nvPr/>
        </p:nvSpPr>
        <p:spPr>
          <a:xfrm>
            <a:off x="5791320" y="62388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Times New Roman"/>
                <a:ea typeface="华文行楷"/>
              </a:rPr>
              <a:t>南泥湾开荒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南泥湾历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南泥湾是位于延安城东南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45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公里处的一条狭窄溪谷，此地野兽出没，杳无人烟。 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1941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年春，由于当时国民党反动派对陕甘宁边区及抗日根据地实行经济封锁，所以，中共中央命令八路军三五九旅进驻南泥湾，实行屯垦，生产自救。没有房，自己动手挖窑洞；没有菜，挖野菜吃；没有工具，就自制锄、铲，短短的三年，由王震旅长率领的三五九旅发扬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自力更生，艰苦奋斗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的革命精神，把荆棘遍野、荒无人烟的南泥湾变成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处处是庄稼，遍地是牛羊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的陕北好江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王家坪革命旧址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0" y="57913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Times New Roman"/>
                <a:ea typeface="华文行楷"/>
              </a:rPr>
              <a:t>王家坪革命旧址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d9d8ec"/>
                </a:solidFill>
                <a:latin typeface="Arial"/>
              </a:rPr>
              <a:t>相关介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33cc"/>
                </a:solidFill>
                <a:latin typeface="宋体"/>
              </a:rPr>
              <a:t>王家坪位于延安城西北方向，隔延河与城相望，旧址处于两座大山脚下，左边叫脑畔山，右边叫花豹山，一条小沟从林中穿过，依山傍水，环境优美。这里曾是中国人民革命军事委员会和国民革命军第八路军（后改为中国人民解放军总司令部）总部所在地。王家坪革命旧址分为南北两院，人们一般称南院为政治部，北院为司令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5" descr="杨家岭革命旧址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660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7"/>
          <p:cNvSpPr/>
          <p:nvPr/>
        </p:nvSpPr>
        <p:spPr>
          <a:xfrm>
            <a:off x="5105520" y="228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华文新魏"/>
              </a:rPr>
              <a:t>杨家岭革命旧址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d9d8ec"/>
                </a:solidFill>
                <a:latin typeface="Arial"/>
              </a:rPr>
              <a:t>相关介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33cc"/>
                </a:solidFill>
                <a:latin typeface="宋体"/>
              </a:rPr>
              <a:t>杨家岭位于延安城西北约</a:t>
            </a:r>
            <a:r>
              <a:rPr b="0" lang="en-US" sz="2800" spc="-1" strike="noStrike">
                <a:solidFill>
                  <a:srgbClr val="ff33cc"/>
                </a:solidFill>
                <a:latin typeface="宋体"/>
              </a:rPr>
              <a:t>2.5</a:t>
            </a:r>
            <a:r>
              <a:rPr b="0" lang="zh-CN" sz="2800" spc="-1" strike="noStrike">
                <a:solidFill>
                  <a:srgbClr val="ff33cc"/>
                </a:solidFill>
                <a:latin typeface="宋体"/>
              </a:rPr>
              <a:t>公里处，原是一处只有十几户人家的小山村，</a:t>
            </a:r>
            <a:r>
              <a:rPr b="0" lang="en-US" sz="2800" spc="-1" strike="noStrike">
                <a:solidFill>
                  <a:srgbClr val="ff33cc"/>
                </a:solidFill>
                <a:latin typeface="宋体"/>
              </a:rPr>
              <a:t>1938</a:t>
            </a:r>
            <a:r>
              <a:rPr b="0" lang="zh-CN" sz="2800" spc="-1" strike="noStrike">
                <a:solidFill>
                  <a:srgbClr val="ff33cc"/>
                </a:solidFill>
                <a:latin typeface="宋体"/>
              </a:rPr>
              <a:t>年</a:t>
            </a:r>
            <a:r>
              <a:rPr b="0" lang="en-US" sz="2800" spc="-1" strike="noStrike">
                <a:solidFill>
                  <a:srgbClr val="ff33cc"/>
                </a:solidFill>
                <a:latin typeface="宋体"/>
              </a:rPr>
              <a:t>11</a:t>
            </a:r>
            <a:r>
              <a:rPr b="0" lang="zh-CN" sz="2800" spc="-1" strike="noStrike">
                <a:solidFill>
                  <a:srgbClr val="ff33cc"/>
                </a:solidFill>
                <a:latin typeface="宋体"/>
              </a:rPr>
              <a:t>月至</a:t>
            </a:r>
            <a:r>
              <a:rPr b="0" lang="en-US" sz="2800" spc="-1" strike="noStrike">
                <a:solidFill>
                  <a:srgbClr val="ff33cc"/>
                </a:solidFill>
                <a:latin typeface="宋体"/>
              </a:rPr>
              <a:t>1947</a:t>
            </a:r>
            <a:r>
              <a:rPr b="0" lang="zh-CN" sz="2800" spc="-1" strike="noStrike">
                <a:solidFill>
                  <a:srgbClr val="ff33cc"/>
                </a:solidFill>
                <a:latin typeface="宋体"/>
              </a:rPr>
              <a:t>年</a:t>
            </a:r>
            <a:r>
              <a:rPr b="0" lang="en-US" sz="2800" spc="-1" strike="noStrike">
                <a:solidFill>
                  <a:srgbClr val="ff33cc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33cc"/>
                </a:solidFill>
                <a:latin typeface="宋体"/>
              </a:rPr>
              <a:t>月，中共中央及主要领导在这里居住。在此期间，领导解放区军民展开了轰轰烈烈的大生产运动；领导全党展开了伟大的整风运动；召开了具有伟大历史意义的第七次全国党代会；著名的延安文艺座谈会也是在这里召开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75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get?name=T1v00yBvEX1RCvBVd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60000" cy="70293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5"/>
          <p:cNvSpPr/>
          <p:nvPr/>
        </p:nvSpPr>
        <p:spPr>
          <a:xfrm>
            <a:off x="1187280" y="692280"/>
            <a:ext cx="73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我们永远告别了破旧的茅屋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却忘不了延安窑洞温热的土坑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2234520" y="3068640"/>
            <a:ext cx="5027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r>
              <a:rPr b="0" i="1" lang="zh-CN" sz="18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　</a:t>
            </a:r>
            <a:r>
              <a:rPr b="0" i="1" lang="zh-CN" sz="32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破旧的茅屋指过去贫穷落后的生活条件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温热的土坑指的是那种在革命战争年代中亲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密的军民关系、火热的斗争生活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1197000"/>
            <a:ext cx="8613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毫不犹豫地丢掉了老牛破车，却不能丢宝塔山顶天立地的脊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2050920" y="2133720"/>
            <a:ext cx="459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900000" y="2706480"/>
            <a:ext cx="65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我们毫不犹豫地丢掉了老牛破车，却不能丢宝塔山顶天立地的脊梁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2" name="Picture 6" descr="get?name=T1d2LwBXJ41RCvBVd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577440" cy="702936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7"/>
          <p:cNvSpPr/>
          <p:nvPr/>
        </p:nvSpPr>
        <p:spPr>
          <a:xfrm>
            <a:off x="1476360" y="1484280"/>
            <a:ext cx="741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我们毫不犹豫丢掉了老牛破车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却不能丢掉宝塔山顶天立地的脊梁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2487240" y="3429000"/>
            <a:ext cx="517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　　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老牛破车代表过去落后的生产条件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宝塔山顶天立地的脊梁代表延安精神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5"/>
          <p:cNvSpPr/>
          <p:nvPr/>
        </p:nvSpPr>
        <p:spPr>
          <a:xfrm>
            <a:off x="304920" y="272736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imes New Roman"/>
                <a:ea typeface="幼圆"/>
              </a:rPr>
              <a:t>追寻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2590920" y="97488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ccff"/>
                </a:solidFill>
                <a:uFillTx/>
                <a:latin typeface="Times New Roman"/>
                <a:ea typeface="幼圆"/>
              </a:rPr>
              <a:t>延河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2590920" y="210168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ccff"/>
                </a:solidFill>
                <a:uFillTx/>
                <a:latin typeface="Times New Roman"/>
                <a:ea typeface="幼圆"/>
              </a:rPr>
              <a:t>枣园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2590920" y="4632480"/>
            <a:ext cx="25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ccff"/>
                </a:solidFill>
                <a:uFillTx/>
                <a:latin typeface="Times New Roman"/>
                <a:ea typeface="幼圆"/>
              </a:rPr>
              <a:t>杨家岭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6172200" y="144792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imes New Roman"/>
                <a:ea typeface="幼圆"/>
              </a:rPr>
              <a:t>信念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Text Box 12"/>
          <p:cNvSpPr/>
          <p:nvPr/>
        </p:nvSpPr>
        <p:spPr>
          <a:xfrm>
            <a:off x="6172200" y="26668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imes New Roman"/>
                <a:ea typeface="幼圆"/>
              </a:rPr>
              <a:t>温暖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6172200" y="387036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imes New Roman"/>
                <a:ea typeface="幼圆"/>
              </a:rPr>
              <a:t>光明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AutoShape 14"/>
          <p:cNvSpPr/>
          <p:nvPr/>
        </p:nvSpPr>
        <p:spPr>
          <a:xfrm>
            <a:off x="2133720" y="1371600"/>
            <a:ext cx="304560" cy="4038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AutoShape 15"/>
          <p:cNvSpPr/>
          <p:nvPr/>
        </p:nvSpPr>
        <p:spPr>
          <a:xfrm>
            <a:off x="586728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Line 16"/>
          <p:cNvSpPr/>
          <p:nvPr/>
        </p:nvSpPr>
        <p:spPr>
          <a:xfrm>
            <a:off x="5105520" y="32767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Rectangle 20"/>
          <p:cNvSpPr/>
          <p:nvPr/>
        </p:nvSpPr>
        <p:spPr>
          <a:xfrm>
            <a:off x="2948040" y="32130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ccff"/>
                </a:solidFill>
                <a:uFillTx/>
                <a:latin typeface="Times New Roman"/>
                <a:ea typeface="宋体"/>
              </a:rPr>
              <a:t>南泥湾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1810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692360" y="0"/>
            <a:ext cx="12025440" cy="852156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5"/>
          <p:cNvSpPr/>
          <p:nvPr/>
        </p:nvSpPr>
        <p:spPr>
          <a:xfrm>
            <a:off x="0" y="2421000"/>
            <a:ext cx="40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-181080" y="907920"/>
            <a:ext cx="1029816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延安精神，就是全心全意为人民服务的精神；延安精神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就是理论联系实际，自力更生艰苦奋斗、不断开拓创新的精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神；延安精神，就是解放思想，实事求是的精神。延安精神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就是为崇高理想而献身的精神。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延安精神把共产党人和革命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者融入到广大人民群众之中，官兵一致，军民一致，水乳交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融，使我们党获得了最广大人民群众的拥护和支持，这是中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国共产党从胜利走向胜利的最大政治优势。即使将来我们经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济发达了，生活富裕了，我们绝不能丢下延安精神，因为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论什么时候，人们总要征服自然，改造自然。为了把社会推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向前进，这就必须发扬延安精神。延安精神是中国共产党的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传家宝，是中华民族宝贵的精神财富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420408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延安精神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延安，一座北国边塞之城，一方热烈而又神秘的土地。延安，一幅壮丽的历史画卷，一部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692360" y="0"/>
            <a:ext cx="11449080" cy="702936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5"/>
          <p:cNvSpPr/>
          <p:nvPr/>
        </p:nvSpPr>
        <p:spPr>
          <a:xfrm>
            <a:off x="1116000" y="765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2484360" y="1557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1763640" y="22446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4" name="Picture 8" descr="图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2052720" y="-647640"/>
            <a:ext cx="14328720" cy="750564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9"/>
          <p:cNvSpPr/>
          <p:nvPr/>
        </p:nvSpPr>
        <p:spPr>
          <a:xfrm>
            <a:off x="2627280" y="170028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Rectangle 10"/>
          <p:cNvSpPr/>
          <p:nvPr/>
        </p:nvSpPr>
        <p:spPr>
          <a:xfrm>
            <a:off x="1116000" y="1833120"/>
            <a:ext cx="6912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延安，一座北国边塞之城，一方热烈而又神秘的土地。延安，一幅壮丽的历史画卷，一部光照史册，启迪后人的经典。                </a:t>
            </a:r>
            <a:r>
              <a:rPr b="0" i="1" lang="en-US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1935</a:t>
            </a: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年到</a:t>
            </a:r>
            <a:r>
              <a:rPr b="0" i="1" lang="en-US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1948</a:t>
            </a: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年的</a:t>
            </a:r>
            <a:r>
              <a:rPr b="0" i="1" lang="en-US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13</a:t>
            </a: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年间，那场翻天覆地，激荡山河的革命浪潮曾经从这里席卷全国，延安，也因此被称为革命圣地。王家坪、杨家岭、枣园、南泥湾，这里革命的足迹历历在目，看着这一切，诗人满怀激情地写下了这样的诗句：“延安，我把你追寻”，诗人在追寻什么呢？今天，我们就来学习这篇课文</a:t>
            </a:r>
            <a:r>
              <a:rPr b="0" i="1" lang="en-US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《</a:t>
            </a: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延安，我把你追寻</a:t>
            </a:r>
            <a:r>
              <a:rPr b="0" i="1" lang="en-US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》</a:t>
            </a: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。</a:t>
            </a:r>
            <a:br>
              <a:rPr sz="3600"/>
            </a:br>
            <a:br>
              <a:rPr sz="2800"/>
            </a:b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4" descr="江主席的题词"/>
          <p:cNvPicPr/>
          <p:nvPr/>
        </p:nvPicPr>
        <p:blipFill>
          <a:blip r:embed="rId1"/>
          <a:stretch/>
        </p:blipFill>
        <p:spPr>
          <a:xfrm>
            <a:off x="2120760" y="0"/>
            <a:ext cx="4899240" cy="6858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117"/>
          <p:cNvPicPr/>
          <p:nvPr/>
        </p:nvPicPr>
        <p:blipFill>
          <a:blip r:embed="rId2"/>
          <a:stretch/>
        </p:blipFill>
        <p:spPr>
          <a:xfrm>
            <a:off x="0" y="0"/>
            <a:ext cx="2133720" cy="6858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6" descr="117"/>
          <p:cNvPicPr/>
          <p:nvPr/>
        </p:nvPicPr>
        <p:blipFill>
          <a:blip r:embed="rId3"/>
          <a:stretch/>
        </p:blipFill>
        <p:spPr>
          <a:xfrm>
            <a:off x="6934320" y="0"/>
            <a:ext cx="2133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ccccff"/>
                </a:solidFill>
                <a:latin typeface="Arial"/>
              </a:rPr>
              <a:t>相关介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33cc"/>
                </a:solidFill>
                <a:latin typeface="宋体"/>
              </a:rPr>
              <a:t>在革命战争年代，中共中央曾在延安领导了中国革命，毛泽东等领袖们在这里为中国革命制定了正确的路线、方针、政策。中国共产党及其领导者，好像灯塔一样，给中国革命指明了方向。因此，宝塔山上的宝塔就成了革命圣地延安的象征。经常出现在文人和画家的笔下。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5"/>
          <p:cNvSpPr/>
          <p:nvPr/>
        </p:nvSpPr>
        <p:spPr>
          <a:xfrm>
            <a:off x="2195640" y="112536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1835280" y="549360"/>
            <a:ext cx="730872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延安，／我把你／追寻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　　　　　　　　　　　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像／翩翩／归来的／燕子，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在／追寻／昔日的／春光；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像／茁壮成长的／小树，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在／追寻／雨露和太阳。</a:t>
            </a:r>
            <a:br>
              <a:rPr sz="2800"/>
            </a:b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追寻你，／延河／叮咚的／流水，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追寻你，／枣园／梨花的／清香，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追寻你，／南泥湾／开荒的／镢头，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追寻你，／杨家岭／讲话的／会场。</a:t>
            </a:r>
            <a:br>
              <a:rPr sz="2800"/>
            </a:br>
            <a:br>
              <a:rPr sz="1800"/>
            </a:b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5"/>
          <p:cNvSpPr/>
          <p:nvPr/>
        </p:nvSpPr>
        <p:spPr>
          <a:xfrm>
            <a:off x="2195640" y="112536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835280" y="549360"/>
            <a:ext cx="73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826920" y="942840"/>
            <a:ext cx="831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排排／高楼大厦／像雨后春笋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件件／家用电器／满目琳琅；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   我们／永远／告别了／破旧的茅屋，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　   却忘不了／延安窑洞／温热的／土炕。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　　　　　　　　　　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航天飞机／探索／宇宙的／奥秘，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电子计算机／奏出／美妙的／交响；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　我们／毫不犹豫／丢掉了／老牛破车，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　   却不能丢掉／宝塔山／顶天立地的／脊梁。</a:t>
            </a:r>
            <a:br>
              <a:rPr sz="2800"/>
            </a:br>
            <a:br>
              <a:rPr sz="2800"/>
            </a:b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3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4"/>
          <p:cNvSpPr/>
          <p:nvPr/>
        </p:nvSpPr>
        <p:spPr>
          <a:xfrm>
            <a:off x="1258920" y="692280"/>
            <a:ext cx="6842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延安，／你的／精神／灿烂辉煌！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如果／一旦／失去了你啊，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那就／仿佛／没有了／灵魂，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怎能向／美好的／未来／展翅飞翔？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　　　　　　　　　　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啊！／延安，／我把你／追寻，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追寻／信念，追寻／金色的／理想；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追寻／温暖，追寻／明媚的／春光；</a:t>
            </a:r>
            <a:br>
              <a:rPr sz="2800"/>
            </a:b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追寻／光明，追寻／火红的／太阳！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9961560" cy="681192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5"/>
          <p:cNvSpPr/>
          <p:nvPr/>
        </p:nvSpPr>
        <p:spPr>
          <a:xfrm>
            <a:off x="719280" y="33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延河、枣园、南泥湾、杨家岭是延安最具有代表性的地方。延河是黄河的一条支流，它流经延安。当年人们常在延河边上漫步，讨论革命的道理。枣园在延安西北，距市中心约七公里，曾是党中央所在地，毛主席的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《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为人民服务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》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等著作就是在这里写的。南泥湾在延安南部。当年八路军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0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师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59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旅响应党中央的号召，在这里垦荒种粮，开展大生产运动。著名的歌曲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《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南泥湾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》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就是歌颂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59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旅的，歌词中写道：“南泥湾是个好地方，到处是庄稼，遍地是牛羊。当年的南泥湾，到处呀是荒山，没呀人烟。如今的南泥湾，与往年不一般，再不是旧模样，是陕北的好江南。”杨家岭在延安西北，距离市中心约三公里，那里有中央礼堂和中央办公楼，许多重要的会议曾在这里召开。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宝塔山1"/>
          <p:cNvPicPr/>
          <p:nvPr/>
        </p:nvPicPr>
        <p:blipFill>
          <a:blip r:embed="rId1"/>
          <a:stretch/>
        </p:blipFill>
        <p:spPr>
          <a:xfrm>
            <a:off x="3925800" y="0"/>
            <a:ext cx="52182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WordArt 5"/>
          <p:cNvSpPr txBox="1"/>
          <p:nvPr/>
        </p:nvSpPr>
        <p:spPr>
          <a:xfrm rot="5400000">
            <a:off x="-380880" y="2285640"/>
            <a:ext cx="434340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solidFill>
                  <a:srgbClr val="cc0000"/>
                </a:solidFill>
                <a:uFillTx/>
                <a:latin typeface="华文行楷"/>
              </a:rPr>
              <a:t>宝塔山</a:t>
            </a:r>
            <a:endParaRPr b="1" i="1" lang="en-US" sz="2400" spc="-1" strike="noStrike" u="sng">
              <a:ln w="0">
                <a:noFill/>
              </a:ln>
              <a:solidFill>
                <a:srgbClr val="cc0000"/>
              </a:solidFill>
              <a:uFillTx/>
              <a:latin typeface="华文行楷"/>
              <a:ea typeface="华文行楷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宝塔山2"/>
          <p:cNvPicPr/>
          <p:nvPr/>
        </p:nvPicPr>
        <p:blipFill>
          <a:blip r:embed="rId1"/>
          <a:stretch/>
        </p:blipFill>
        <p:spPr>
          <a:xfrm>
            <a:off x="0" y="0"/>
            <a:ext cx="600228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WordArt 5"/>
          <p:cNvSpPr txBox="1"/>
          <p:nvPr/>
        </p:nvSpPr>
        <p:spPr>
          <a:xfrm rot="5400000">
            <a:off x="5562360" y="2285640"/>
            <a:ext cx="434340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solidFill>
                  <a:srgbClr val="cc0000"/>
                </a:solidFill>
                <a:uFillTx/>
                <a:latin typeface="华文行楷"/>
              </a:rPr>
              <a:t>宝塔山</a:t>
            </a:r>
            <a:endParaRPr b="1" i="1" lang="en-US" sz="2400" spc="-1" strike="noStrike" u="sng">
              <a:ln w="0">
                <a:noFill/>
              </a:ln>
              <a:solidFill>
                <a:srgbClr val="cc0000"/>
              </a:solidFill>
              <a:uFillTx/>
              <a:latin typeface="华文行楷"/>
              <a:ea typeface="华文行楷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5T03:14:41Z</dcterms:created>
  <dc:creator/>
  <dc:description/>
  <dc:language>en-US</dc:language>
  <cp:lastModifiedBy>万润仪器贸易公司</cp:lastModifiedBy>
  <dcterms:modified xsi:type="dcterms:W3CDTF">2020-08-24T03:43:3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